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ee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153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798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ee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04920" y="4296240"/>
            <a:ext cx="8153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798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ee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ee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397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798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ee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83080" y="1828440"/>
            <a:ext cx="397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798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ee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4296240"/>
            <a:ext cx="397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798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ee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483080" y="4296240"/>
            <a:ext cx="397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798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ee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ee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2625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798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ee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61800" y="1828440"/>
            <a:ext cx="2625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798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ee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18320" y="1828440"/>
            <a:ext cx="2625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798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ee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04920" y="4296240"/>
            <a:ext cx="2625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798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ee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61800" y="4296240"/>
            <a:ext cx="2625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798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ee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18320" y="4296240"/>
            <a:ext cx="2625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798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ee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e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ee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ee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798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ee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ee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397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798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ee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483080" y="1828440"/>
            <a:ext cx="397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798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ee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ee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193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7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ee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ee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397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798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ee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83080" y="1828440"/>
            <a:ext cx="397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798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ee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04920" y="4296240"/>
            <a:ext cx="397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798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ee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ee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397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798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ee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83080" y="1828440"/>
            <a:ext cx="397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798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ee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83080" y="4296240"/>
            <a:ext cx="397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798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ee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ee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397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798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ee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83080" y="1828440"/>
            <a:ext cx="397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798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ee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4296240"/>
            <a:ext cx="8153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798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ee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ee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9ee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8284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3798"/>
              </a:lnSpc>
              <a:spcBef>
                <a:spcPts val="751"/>
              </a:spcBef>
              <a:buClr>
                <a:srgbClr val="009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ee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9ee0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ee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9ee0"/>
              </a:solidFill>
              <a:latin typeface="Arial"/>
            </a:endParaRPr>
          </a:p>
          <a:p>
            <a:pPr lvl="2" marL="1143000" indent="-228600">
              <a:lnSpc>
                <a:spcPts val="3798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ee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9ee0"/>
              </a:solidFill>
              <a:latin typeface="Arial"/>
            </a:endParaRPr>
          </a:p>
          <a:p>
            <a:pPr lvl="3" marL="1600200" indent="-228600">
              <a:lnSpc>
                <a:spcPts val="3798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ee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9ee0"/>
              </a:solidFill>
              <a:latin typeface="Arial"/>
            </a:endParaRPr>
          </a:p>
          <a:p>
            <a:pPr lvl="4" marL="2057400" indent="-228600">
              <a:lnSpc>
                <a:spcPts val="3798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ee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9ee0"/>
              </a:solidFill>
              <a:latin typeface="Arial"/>
            </a:endParaRPr>
          </a:p>
          <a:p>
            <a:pPr lvl="5" marL="2057400" indent="-228600">
              <a:lnSpc>
                <a:spcPts val="3798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ee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9ee0"/>
              </a:solidFill>
              <a:latin typeface="Arial"/>
            </a:endParaRPr>
          </a:p>
          <a:p>
            <a:pPr lvl="6" marL="2057400" indent="-228600">
              <a:lnSpc>
                <a:spcPts val="3798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ee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9ee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362320" y="1752480"/>
            <a:ext cx="6629400" cy="609840"/>
          </a:xfrm>
          <a:prstGeom prst="rect">
            <a:avLst/>
          </a:prstGeom>
          <a:solidFill>
            <a:srgbClr val="ec74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83059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ee0"/>
                </a:solidFill>
                <a:latin typeface="Arial"/>
              </a:rPr>
              <a:t>WELCOME TO </a:t>
            </a:r>
            <a:br>
              <a:rPr sz="4000"/>
            </a:br>
            <a:r>
              <a:rPr b="0" lang="en-US" sz="4000" spc="-1" strike="noStrike">
                <a:solidFill>
                  <a:srgbClr val="a2daf3"/>
                </a:solidFill>
                <a:latin typeface="Arial"/>
              </a:rPr>
              <a:t>SOS CHILDREN’S </a:t>
            </a:r>
            <a:br>
              <a:rPr sz="4000"/>
            </a:br>
            <a:r>
              <a:rPr b="0" lang="en-US" sz="4000" spc="-1" strike="noStrike">
                <a:solidFill>
                  <a:srgbClr val="a2daf3"/>
                </a:solidFill>
                <a:latin typeface="Arial"/>
              </a:rPr>
              <a:t>VILLAGE LUBANGO, ANGOLA</a:t>
            </a:r>
            <a:endParaRPr b="0" lang="en-US" sz="4000" spc="-1" strike="noStrike">
              <a:solidFill>
                <a:srgbClr val="009ee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2210040" cy="6066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116000" y="2379600"/>
            <a:ext cx="684072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3879" t="90" r="3099" b="37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2209680" cy="6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ee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798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ee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2209680" cy="6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2209680" cy="6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13:36:14Z</dcterms:created>
  <dc:creator>Helen Elmerstig</dc:creator>
  <dc:description/>
  <dc:language>en-US</dc:language>
  <cp:lastModifiedBy>Helen Elmerstig</cp:lastModifiedBy>
  <dcterms:modified xsi:type="dcterms:W3CDTF">2011-04-19T14:44:38Z</dcterms:modified>
  <cp:revision>3</cp:revision>
  <dc:subject/>
  <dc:title>WELCOME TO  SOS CHILDREN’S  VILLAGES</dc:title>
</cp:coreProperties>
</file>